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CE1-B1D4-4B91-BD74-78856A72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42-7516-4DDC-AC18-1F89F798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A1F-AD67-4460-8E3A-D1D9E6F3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34B-88BA-4E4B-8961-88B514EE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2C2-9833-493D-B878-FE451085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5AA-735C-491D-A9EB-AF37E28B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222-8E69-4B20-B8F8-DCFE5E0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2E7-3CE2-4778-8E3D-19AC7CF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15B-1067-45EC-8880-EA8DC9F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E21-B761-44FA-B4F9-62B5A9C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C44-6CC4-49BB-8CFB-41D95B4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5BE-0572-45BE-9D9F-673C440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7F91-8815-4D05-8CBF-445982C1E5A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671920" y="893880"/>
            <a:ext cx="3922560" cy="5527440"/>
          </a:xfrm>
          <a:prstGeom prst="rect">
            <a:avLst/>
          </a:prstGeom>
          <a:ln w="0">
            <a:noFill/>
          </a:ln>
        </p:spPr>
      </p:pic>
      <p:sp>
        <p:nvSpPr>
          <p:cNvPr id="42" name="textruta 3"/>
          <p:cNvSpPr/>
          <p:nvPr/>
        </p:nvSpPr>
        <p:spPr>
          <a:xfrm>
            <a:off x="3018600" y="643896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Walter Paget – Robinson Cruso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2805120" y="10944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Robinson Cruso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88280" cy="61484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1"/>
          <p:cNvSpPr/>
          <p:nvPr/>
        </p:nvSpPr>
        <p:spPr>
          <a:xfrm>
            <a:off x="3403440" y="63673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aobabträd – sidan 1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103640" cy="6156360"/>
          </a:xfrm>
          <a:prstGeom prst="rect">
            <a:avLst/>
          </a:prstGeom>
          <a:ln w="0">
            <a:noFill/>
          </a:ln>
        </p:spPr>
      </p:pic>
      <p:sp>
        <p:nvSpPr>
          <p:cNvPr id="47" name="textruta 1"/>
          <p:cNvSpPr/>
          <p:nvPr/>
        </p:nvSpPr>
        <p:spPr>
          <a:xfrm>
            <a:off x="3464280" y="640080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ropiskt regn – sid 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50000" cy="61196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1"/>
          <p:cNvSpPr/>
          <p:nvPr/>
        </p:nvSpPr>
        <p:spPr>
          <a:xfrm>
            <a:off x="3470040" y="64501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umatratiger– sid 1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2:40:38Z</dcterms:created>
  <dc:creator>Rebecca Borg</dc:creator>
  <dc:description/>
  <dc:language>en-US</dc:language>
  <cp:lastModifiedBy>Rebecca Borg</cp:lastModifiedBy>
  <dcterms:modified xsi:type="dcterms:W3CDTF">2011-01-24T12:53:11Z</dcterms:modified>
  <cp:revision>2</cp:revision>
  <dc:subject/>
  <dc:title>PowerPoint-presentation</dc:title>
</cp:coreProperties>
</file>